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3.xml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13.xml"/><Relationship Id="rId14" Type="http://schemas.openxmlformats.org/officeDocument/2006/relationships/slide" Target="slide15.xml"/><Relationship Id="rId15" Type="http://schemas.openxmlformats.org/officeDocument/2006/relationships/slide" Target="slide15.xml"/><Relationship Id="rId1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3.xml"/><Relationship Id="rId10" Type="http://schemas.openxmlformats.org/officeDocument/2006/relationships/slide" Target="slide15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.xml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6.xml"/><Relationship Id="rId15" Type="http://schemas.openxmlformats.org/officeDocument/2006/relationships/slide" Target="slide7.xml"/><Relationship Id="rId16" Type="http://schemas.openxmlformats.org/officeDocument/2006/relationships/slide" Target="slide7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kal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8040" y="5493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kal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CO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2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100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257040" y="6086520"/>
            <a:ext cx="3108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uerstoff 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b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19240" y="549360"/>
            <a:ext cx="6852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piratorisc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ventilatio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auerstoff in der Umgebung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3"/>
            <a:endCxn id="16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nausgewoge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rkosega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enthalt in großer Höh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00520" y="549360"/>
            <a:ext cx="6890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piratorisc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ventilatio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Obstruktion der 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3"/>
            <a:endCxn id="17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chealkollap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achiozephalen-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uerstoffaustau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der Lun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65880" y="549360"/>
            <a:ext cx="767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piratorisc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ventilatio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auerstoffaustausch in der Lunge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8" idx="3"/>
            <a:endCxn id="18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neumo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ö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kardiogen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cht-kardiog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uerstofftranspo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Blut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änd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globin/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glob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rdiovasku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3"/>
            <a:endCxn id="18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8" name=""/>
          <p:cNvCxnSpPr>
            <a:stCxn id="184" idx="3"/>
            <a:endCxn id="18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1119240" y="549360"/>
            <a:ext cx="6852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respiratorisc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Hyperventilatio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Sauerstofftransport im Blut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änd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globin/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glob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19240" y="549360"/>
            <a:ext cx="68529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piratorisc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ventilatio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auerstofftransport im Blut gestö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verändertes Hämoglobin/zu wenig Hämoglob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ethämoglobinäm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rdiovasku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erzauswurf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misch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rteriellem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8" idx="3"/>
            <a:endCxn id="19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2" name=""/>
          <p:cNvCxnSpPr>
            <a:stCxn id="198" idx="3"/>
            <a:endCxn id="20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119240" y="549360"/>
            <a:ext cx="68529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respiratorisc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yperventilatio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Sauerstofftransport im Blut gestö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kardiovaskulär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19240" y="549360"/>
            <a:ext cx="68529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piratorisc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ventilatio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auerstoffunterversorg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auerstofftransport im Blut gestör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kardiovaskulär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 Ursach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Herzauswurf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rzauswurf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7" idx="3"/>
            <a:endCxn id="20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C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ortensten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640" y="6120000"/>
            <a:ext cx="3257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CM = dilatative Kardiomy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800" y="549360"/>
            <a:ext cx="8326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piratorisc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Hyperventilatio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auerstoffunterversorgung &gt; Sauerstofftransport im Blut gestört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ardiovaskuläre Ursache &gt; Vermischung von arteriellem und 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misch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teriellem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3"/>
            <a:endCxn id="2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mgedrehter PD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mgedrehter VS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ulmonäre ateriovenöse Fiste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3080" y="5876640"/>
            <a:ext cx="37422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A = persistierender Ductus aterios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SD = Ventrikelseptumdefek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2040" y="549360"/>
            <a:ext cx="7407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pCO</a:t>
            </a:r>
            <a:r>
              <a:rPr b="1" lang="de-DE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↓ &gt; respiratorische Alkalose &gt; Hyperventilatio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timulation des 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imulat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3"/>
            <a:endCxn id="22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chmerz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eb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thyre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3"/>
            <a:endCxn id="10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etabol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lkal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5640" y="549360"/>
            <a:ext cx="215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lkal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CO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3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-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tabol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kal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32840" y="549360"/>
            <a:ext cx="468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lkal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äu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3"/>
            <a:endCxn id="11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2" idx="3"/>
            <a:endCxn id="117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21" idx="3"/>
            <a:endCxn id="12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äu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brechen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einem Magenin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6560" y="549360"/>
            <a:ext cx="676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-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Verlust von Säu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brechen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inem Magenin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96200" y="549360"/>
            <a:ext cx="6962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-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erlust von Säur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Erbrechen von reinem Magenin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3"/>
            <a:endCxn id="12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ylorussten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bstruierender Fremdkörp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m Anfangste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es Dünndarm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33" idx="3"/>
            <a:endCxn id="13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spirator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lkal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6280" y="549360"/>
            <a:ext cx="207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lkal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CO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2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9" idx="3"/>
            <a:endCxn id="14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pirator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kal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vent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42200" y="549360"/>
            <a:ext cx="475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espiratorisc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lkal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vent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9960" y="549360"/>
            <a:ext cx="6654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piratorisc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vent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3"/>
            <a:endCxn id="147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8" name=""/>
          <p:cNvCxnSpPr>
            <a:stCxn id="144" idx="3"/>
            <a:endCxn id="14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imulat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4" idx="3"/>
            <a:endCxn id="150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auerstoff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unterversor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ess/Aufre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uerstoff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terversor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auerstoffaustau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 der Lun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4" idx="3"/>
            <a:endCxn id="15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8" name=""/>
          <p:cNvCxnSpPr>
            <a:stCxn id="154" idx="3"/>
            <a:endCxn id="15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auerstoff 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mgeb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8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auerstofftranspo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im Blut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4" idx="3"/>
            <a:endCxn id="159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2" name=""/>
          <p:cNvCxnSpPr>
            <a:stCxn id="154" idx="3"/>
            <a:endCxn id="160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1119240" y="549360"/>
            <a:ext cx="6852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lkal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pCO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2</a:t>
            </a:r>
            <a:r>
              <a:rPr b="0" lang="de-DE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respiratorisc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6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7" action="ppaction://hlinksldjump"/>
              </a:rPr>
              <a:t>Hyperventilatio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8" action="ppaction://hlinksldjump"/>
              </a:rPr>
              <a:t>Sauerstoffunterversor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7040" y="6363360"/>
            <a:ext cx="310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ohlendioxidpartialdruc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3:29:09Z</dcterms:modified>
  <cp:revision>331</cp:revision>
  <dc:subject/>
  <dc:title>Vorstellung einer Neuheit</dc:title>
</cp:coreProperties>
</file>